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22C-0AA1-46D0-B192-C2755AA1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5AC-6642-4961-9C11-5C425625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652-946B-4684-A934-1D9F36B8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473-2B23-486E-922B-5CD9753B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A7BEB-2DB3-47B0-9A35-92257E8F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8C481-2746-4992-8A18-8BA5D00F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0D0AA-D037-47CF-A102-D231C5D2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24D15-4D1F-44F9-A24C-91BD4475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40E6B-3A1C-46CD-B0BC-ECB9997E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4317A-DDD0-4179-854F-EBAD12F5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12AE7-30C3-466B-8429-CDD189F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26C-49EB-4769-A7C2-B653665F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A26AD-177A-40AF-9228-B83DFE4E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978BE-4A70-4A11-8427-88C135A0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40F46-8E26-4699-A7E9-3EED74A0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70A14-8930-4A96-9DE9-D8C35E6B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DC30C-B999-41DA-B45E-DDC623FA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D29-8B93-4647-9E1F-05C48B9D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720-512C-4D24-BBAA-96F9FF3E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AEC-1679-40CB-8B42-41C6F8EB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D3C-F78F-40DF-B1A8-25986B5C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6D8-CDE5-4865-986F-522EC1F1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293-CFA1-4A2D-9592-5345ED41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3A3-025E-4D3B-BDF6-C8741481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DCB0-C4F7-4983-89E1-FB10D94B44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0F82-2654-4EB9-B1A5-98757B6E44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89960" y="189000"/>
            <a:ext cx="5924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s fronteriz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de otro asalto a Baeza”  (agosto 14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icos, los mis moric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que ganáis mi sold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rribédesme a Baez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a villa torre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los viejosm y a los ni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traed en cabalg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los mozos y var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meted  todos a esp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ese viejo pero Dí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rendédmelo por la barb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quesa linda Leo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rá la mi enam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d vos, capitán Vanegas, porque venga más honr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si vos sois mandader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rá cierta la jornad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34:04Z</dcterms:created>
  <dc:creator> </dc:creator>
  <dc:description/>
  <dc:language>en-US</dc:language>
  <cp:lastModifiedBy> </cp:lastModifiedBy>
  <dcterms:modified xsi:type="dcterms:W3CDTF">2007-09-28T02:57:27Z</dcterms:modified>
  <cp:revision>6</cp:revision>
  <dc:subject/>
  <dc:title>Diapositiva 1</dc:title>
</cp:coreProperties>
</file>